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e1e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4e1e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9F29A-7820-4882-A5B0-F35039695A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5413F-5AE0-4018-88C2-29A7B403C37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1AAB4-3078-4424-B8B7-635E2CF12AE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FB9A7-6086-4F75-8F92-251E5A14A14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993F-C0EE-4690-A049-CF66FE0ED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e1e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E270-39B1-4FCF-A908-3FD42DC69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e1e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9A65-56D5-4579-8BD9-28CB30F83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e1e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87C5-FD5A-4033-B0A4-4580DBA50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e1e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55D4-CA6F-4D9C-9156-E3327A1B3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e1e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1483-DD32-433C-97D1-6C7D916EC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e1e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B149-6293-4486-BCFF-BC54ADB42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e1e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CD0D-921D-46A5-B4A9-78585E8E3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B3DC-5F91-48BC-9A56-14EC97CCE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e1e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D6BE-A533-4B0D-8535-44FDC7FB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e1e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A236-C468-4553-AC20-3EB904AE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e1e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EB77-F2EC-419B-9F5A-8366B3A0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e1e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4e1e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7EBB8-AF3F-4A28-B6D6-FF8F0115FC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C:\Documents and Settings\yuriryab\Рабочий стол\Карта России-Мурманск.jpg"/>
          <p:cNvPicPr/>
          <p:nvPr/>
        </p:nvPicPr>
        <p:blipFill>
          <a:blip r:embed="rId1"/>
          <a:stretch/>
        </p:blipFill>
        <p:spPr>
          <a:xfrm>
            <a:off x="162000" y="461880"/>
            <a:ext cx="8731080" cy="54151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539640" y="2492280"/>
            <a:ext cx="8064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ОБ ИТОГАХ РАБОТЫ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КОМИТЕТА ПО ФИЗИЧЕСКОЙ КУЛЬТУРЕ И СПОРТУ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МУРМАНСКОЙ ОБЛА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ОБ ИТОГАХ РАБОТЫ ЗА ПЕРИОД С СЕНТЯБРЯ 2013 ГОД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ПО ОКТЯБРЬ 2014 ГОДА  ПО АДАПТИВНОМУ СПОРТ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34920" y="44280"/>
            <a:ext cx="864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ЗАСЕДАНИЕ СОВЕТА ПРИ ГУБЕРНАТОРЕ МУРМАНСКОЙ ОБЛАСТ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ПО ДЕЛАМ ИНВАЛИД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6605640" y="1058760"/>
            <a:ext cx="250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29.10. 2014 год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г. Мурманс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6012000" y="4724280"/>
            <a:ext cx="28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2" descr="C:\Documents and Settings\yuriryab\Рабочий стол\Шаблон-Мурманск-2.jpg"/>
          <p:cNvPicPr/>
          <p:nvPr/>
        </p:nvPicPr>
        <p:blipFill>
          <a:blip r:embed="rId2"/>
          <a:stretch/>
        </p:blipFill>
        <p:spPr>
          <a:xfrm>
            <a:off x="5796000" y="4929120"/>
            <a:ext cx="3159000" cy="19288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4"/>
          <p:cNvSpPr/>
          <p:nvPr/>
        </p:nvSpPr>
        <p:spPr>
          <a:xfrm>
            <a:off x="179280" y="5627520"/>
            <a:ext cx="5400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Председатель Комитет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по физической культур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и спорту Мурманской области          С.И. Наумо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179280" y="692280"/>
            <a:ext cx="871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итет по физической культуре и спорту Мурманской области осуществляет свою работу по социальной реабилитации людей с ограниченными возможностями здоровья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путём 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ешения задач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по:</a:t>
            </a: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2" descr="C:\Documents and Settings\yuriryab\Рабочий стол\Шаблон-Мурманск-2.jpg"/>
          <p:cNvPicPr/>
          <p:nvPr/>
        </p:nvPicPr>
        <p:blipFill>
          <a:blip r:embed="rId1"/>
          <a:stretch/>
        </p:blipFill>
        <p:spPr>
          <a:xfrm>
            <a:off x="8051760" y="0"/>
            <a:ext cx="1092240" cy="666720"/>
          </a:xfrm>
          <a:prstGeom prst="rect">
            <a:avLst/>
          </a:prstGeom>
          <a:ln w="0">
            <a:noFill/>
          </a:ln>
        </p:spPr>
      </p:pic>
      <p:grpSp>
        <p:nvGrpSpPr>
          <p:cNvPr id="57" name="TextBox 10"/>
          <p:cNvGrpSpPr/>
          <p:nvPr/>
        </p:nvGrpSpPr>
        <p:grpSpPr>
          <a:xfrm>
            <a:off x="1042920" y="3224160"/>
            <a:ext cx="7107480" cy="838440"/>
            <a:chOff x="1042920" y="3224160"/>
            <a:chExt cx="7107480" cy="838440"/>
          </a:xfrm>
        </p:grpSpPr>
        <p:pic>
          <p:nvPicPr>
            <p:cNvPr id="58" name="TextBox 10" descr=""/>
            <p:cNvPicPr/>
            <p:nvPr/>
          </p:nvPicPr>
          <p:blipFill>
            <a:blip r:embed="rId2"/>
            <a:stretch/>
          </p:blipFill>
          <p:spPr>
            <a:xfrm>
              <a:off x="1042920" y="3224160"/>
              <a:ext cx="7107480" cy="8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060560" y="3238560"/>
              <a:ext cx="7072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- совершенствованию спортивно-массовой и физкультурно-оздоровительной работы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TextBox 11"/>
          <p:cNvGrpSpPr/>
          <p:nvPr/>
        </p:nvGrpSpPr>
        <p:grpSpPr>
          <a:xfrm>
            <a:off x="1042920" y="4151160"/>
            <a:ext cx="7120080" cy="628920"/>
            <a:chOff x="1042920" y="4151160"/>
            <a:chExt cx="7120080" cy="628920"/>
          </a:xfrm>
        </p:grpSpPr>
        <p:pic>
          <p:nvPicPr>
            <p:cNvPr id="61" name="TextBox 11" descr=""/>
            <p:cNvPicPr/>
            <p:nvPr/>
          </p:nvPicPr>
          <p:blipFill>
            <a:blip r:embed="rId3"/>
            <a:stretch/>
          </p:blipFill>
          <p:spPr>
            <a:xfrm>
              <a:off x="1042920" y="4151160"/>
              <a:ext cx="7120080" cy="6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1066680" y="4173480"/>
              <a:ext cx="707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-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 развитию спорта высших достижений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Равнобедренный треугольник 13"/>
          <p:cNvSpPr/>
          <p:nvPr/>
        </p:nvSpPr>
        <p:spPr>
          <a:xfrm rot="10800000">
            <a:off x="1332000" y="1556640"/>
            <a:ext cx="6500880" cy="428760"/>
          </a:xfrm>
          <a:prstGeom prst="triangle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TextBox 14"/>
          <p:cNvGrpSpPr/>
          <p:nvPr/>
        </p:nvGrpSpPr>
        <p:grpSpPr>
          <a:xfrm>
            <a:off x="1042920" y="2279520"/>
            <a:ext cx="7107480" cy="615960"/>
            <a:chOff x="1042920" y="2279520"/>
            <a:chExt cx="7107480" cy="615960"/>
          </a:xfrm>
        </p:grpSpPr>
        <p:pic>
          <p:nvPicPr>
            <p:cNvPr id="65" name="TextBox 14" descr=""/>
            <p:cNvPicPr/>
            <p:nvPr/>
          </p:nvPicPr>
          <p:blipFill>
            <a:blip r:embed="rId4"/>
            <a:stretch/>
          </p:blipFill>
          <p:spPr>
            <a:xfrm>
              <a:off x="1042920" y="2279520"/>
              <a:ext cx="710748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1060560" y="2293920"/>
              <a:ext cx="7072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- развитию массового спорта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1"/>
          <p:cNvSpPr/>
          <p:nvPr/>
        </p:nvSpPr>
        <p:spPr>
          <a:xfrm>
            <a:off x="179280" y="189000"/>
            <a:ext cx="8713800" cy="52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ерспективные направления деятельности комитета определены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еализация мероприятий в рамках программ осуществляется путем совместной деятельности Комитета с региональными отделениями Всероссийских обществ инвалидов, учреждениями дополнительного образования детей спортивной направленности, коррекционными школами-интернатами, аккредитованными федерациями по видам спорта Мурманской области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2" descr="C:\Documents and Settings\yuriryab\Рабочий стол\Шаблон-Мурманск-2.jpg"/>
          <p:cNvPicPr/>
          <p:nvPr/>
        </p:nvPicPr>
        <p:blipFill>
          <a:blip r:embed="rId1"/>
          <a:stretch/>
        </p:blipFill>
        <p:spPr>
          <a:xfrm>
            <a:off x="8051760" y="0"/>
            <a:ext cx="1092240" cy="666720"/>
          </a:xfrm>
          <a:prstGeom prst="rect">
            <a:avLst/>
          </a:prstGeom>
          <a:ln w="0">
            <a:noFill/>
          </a:ln>
        </p:spPr>
      </p:pic>
      <p:grpSp>
        <p:nvGrpSpPr>
          <p:cNvPr id="69" name="TextBox 10"/>
          <p:cNvGrpSpPr/>
          <p:nvPr/>
        </p:nvGrpSpPr>
        <p:grpSpPr>
          <a:xfrm>
            <a:off x="841320" y="2987640"/>
            <a:ext cx="7674120" cy="858960"/>
            <a:chOff x="841320" y="2987640"/>
            <a:chExt cx="7674120" cy="858960"/>
          </a:xfrm>
        </p:grpSpPr>
        <p:pic>
          <p:nvPicPr>
            <p:cNvPr id="70" name="TextBox 10" descr=""/>
            <p:cNvPicPr/>
            <p:nvPr/>
          </p:nvPicPr>
          <p:blipFill>
            <a:blip r:embed="rId2"/>
            <a:stretch/>
          </p:blipFill>
          <p:spPr>
            <a:xfrm>
              <a:off x="841320" y="2987640"/>
              <a:ext cx="7674120" cy="8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857160" y="3000240"/>
              <a:ext cx="7643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2. Государственной программой Мурманской области «Социальная поддержка граждан и развитие социально-трудовых отношений» на 2014-2020 год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Равнобедренный треугольник 13"/>
          <p:cNvSpPr/>
          <p:nvPr/>
        </p:nvSpPr>
        <p:spPr>
          <a:xfrm rot="10800000">
            <a:off x="1285920" y="928440"/>
            <a:ext cx="6500880" cy="428400"/>
          </a:xfrm>
          <a:prstGeom prst="triangle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TextBox 14"/>
          <p:cNvGrpSpPr/>
          <p:nvPr/>
        </p:nvGrpSpPr>
        <p:grpSpPr>
          <a:xfrm>
            <a:off x="841320" y="1554120"/>
            <a:ext cx="7674120" cy="1109880"/>
            <a:chOff x="841320" y="1554120"/>
            <a:chExt cx="7674120" cy="1109880"/>
          </a:xfrm>
        </p:grpSpPr>
        <p:pic>
          <p:nvPicPr>
            <p:cNvPr id="74" name="TextBox 14" descr=""/>
            <p:cNvPicPr/>
            <p:nvPr/>
          </p:nvPicPr>
          <p:blipFill>
            <a:blip r:embed="rId3"/>
            <a:stretch/>
          </p:blipFill>
          <p:spPr>
            <a:xfrm>
              <a:off x="841320" y="1554120"/>
              <a:ext cx="767412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857160" y="1571760"/>
              <a:ext cx="7643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1. Государственной программой Мурманской области «Развитие физической культуры и спорта» на 2014-2020 годы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:\Documents and Settings\yuriryab\Рабочий стол\Шаблон-Мурманск-2.jpg"/>
          <p:cNvPicPr/>
          <p:nvPr/>
        </p:nvPicPr>
        <p:blipFill>
          <a:blip r:embed="rId1"/>
          <a:stretch/>
        </p:blipFill>
        <p:spPr>
          <a:xfrm>
            <a:off x="8051760" y="0"/>
            <a:ext cx="1092240" cy="66672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2"/>
          <p:cNvSpPr/>
          <p:nvPr/>
        </p:nvSpPr>
        <p:spPr>
          <a:xfrm>
            <a:off x="1042920" y="476280"/>
            <a:ext cx="64818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 рамках программ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«Социальная поддержка граждан и развитие социально-трудовых отношений»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едусмотрены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Равнобедренный треугольник 13"/>
          <p:cNvSpPr/>
          <p:nvPr/>
        </p:nvSpPr>
        <p:spPr>
          <a:xfrm rot="10800000">
            <a:off x="1071360" y="1071360"/>
            <a:ext cx="6500520" cy="428400"/>
          </a:xfrm>
          <a:prstGeom prst="triangle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TextBox 14"/>
          <p:cNvGrpSpPr/>
          <p:nvPr/>
        </p:nvGrpSpPr>
        <p:grpSpPr>
          <a:xfrm>
            <a:off x="1054080" y="1749600"/>
            <a:ext cx="7102440" cy="1212840"/>
            <a:chOff x="1054080" y="1749600"/>
            <a:chExt cx="7102440" cy="1212840"/>
          </a:xfrm>
        </p:grpSpPr>
        <p:pic>
          <p:nvPicPr>
            <p:cNvPr id="80" name="TextBox 14" descr=""/>
            <p:cNvPicPr/>
            <p:nvPr/>
          </p:nvPicPr>
          <p:blipFill>
            <a:blip r:embed="rId2"/>
            <a:stretch/>
          </p:blipFill>
          <p:spPr>
            <a:xfrm>
              <a:off x="1054080" y="1749600"/>
              <a:ext cx="710244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1071720" y="1762200"/>
              <a:ext cx="70722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- проведение на территории Мурманской области тренировочных сборов и занятий, областных, всероссийских соревнований и спартакиад по различным видам спорта для людей с ограниченными возможностями здоровья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TextBox 15"/>
          <p:cNvGrpSpPr/>
          <p:nvPr/>
        </p:nvGrpSpPr>
        <p:grpSpPr>
          <a:xfrm>
            <a:off x="1042920" y="3359160"/>
            <a:ext cx="7107480" cy="1468440"/>
            <a:chOff x="1042920" y="3359160"/>
            <a:chExt cx="7107480" cy="1468440"/>
          </a:xfrm>
        </p:grpSpPr>
        <p:pic>
          <p:nvPicPr>
            <p:cNvPr id="83" name="TextBox 15" descr=""/>
            <p:cNvPicPr/>
            <p:nvPr/>
          </p:nvPicPr>
          <p:blipFill>
            <a:blip r:embed="rId3"/>
            <a:stretch/>
          </p:blipFill>
          <p:spPr>
            <a:xfrm>
              <a:off x="1042920" y="3359160"/>
              <a:ext cx="7107480" cy="14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1060560" y="3371760"/>
              <a:ext cx="707220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- участие спортсменов Мурманской области с ограниченными возможностями здоровья в тренировочных, межрегиональных, всероссийских, международных спортивных мероприятиях, семинарах, совещаниях, конференциях по адаптивным видам спорта за пределами регион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TextBox 16"/>
          <p:cNvGrpSpPr/>
          <p:nvPr/>
        </p:nvGrpSpPr>
        <p:grpSpPr>
          <a:xfrm>
            <a:off x="1042920" y="5181480"/>
            <a:ext cx="7107480" cy="682920"/>
            <a:chOff x="1042920" y="5181480"/>
            <a:chExt cx="7107480" cy="682920"/>
          </a:xfrm>
        </p:grpSpPr>
        <p:pic>
          <p:nvPicPr>
            <p:cNvPr id="86" name="TextBox 16" descr=""/>
            <p:cNvPicPr/>
            <p:nvPr/>
          </p:nvPicPr>
          <p:blipFill>
            <a:blip r:embed="rId4"/>
            <a:stretch/>
          </p:blipFill>
          <p:spPr>
            <a:xfrm>
              <a:off x="1042920" y="5181480"/>
              <a:ext cx="7107480" cy="6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1060560" y="5197320"/>
              <a:ext cx="7072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- приобретение комплектов игры "Бочче" для муниципальных образований Мурманской области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Documents and Settings\yuriryab\Рабочий стол\Шаблон-Мурманск-2.jpg"/>
          <p:cNvPicPr/>
          <p:nvPr/>
        </p:nvPicPr>
        <p:blipFill>
          <a:blip r:embed="rId1"/>
          <a:stretch/>
        </p:blipFill>
        <p:spPr>
          <a:xfrm>
            <a:off x="8051760" y="0"/>
            <a:ext cx="1092240" cy="66672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2"/>
          <p:cNvSpPr/>
          <p:nvPr/>
        </p:nvSpPr>
        <p:spPr>
          <a:xfrm>
            <a:off x="1403280" y="404640"/>
            <a:ext cx="6481800" cy="785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С сентября </a:t>
            </a: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013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 по октябрь </a:t>
            </a: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014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год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были проведены следующие мероприятия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Прямоугольник 2"/>
          <p:cNvSpPr/>
          <p:nvPr/>
        </p:nvSpPr>
        <p:spPr>
          <a:xfrm>
            <a:off x="214200" y="1357200"/>
            <a:ext cx="8715600" cy="1214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Равнобедренный треугольник 13"/>
          <p:cNvSpPr/>
          <p:nvPr/>
        </p:nvSpPr>
        <p:spPr>
          <a:xfrm rot="10800000">
            <a:off x="1332000" y="1196280"/>
            <a:ext cx="6500880" cy="428760"/>
          </a:xfrm>
          <a:prstGeom prst="triangle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79280" y="1773360"/>
          <a:ext cx="8785440" cy="381636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441360">
                <a:tc>
                  <a:txBody>
                    <a:bodyPr lIns="34920" rIns="34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.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Спартакиада инвалидов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4920" marR="34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fe8f1"/>
                    </a:solidFill>
                  </a:tcPr>
                </a:tc>
              </a:tr>
              <a:tr h="590400"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.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Соревнования по шахматам и шашкам для людей с ограниченными возможностями здоровья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4920" marR="34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588960"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3.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О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тборочные соревнования Спартакиады Специальной Олимпиады России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 п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плаванию, лёгкой атлетике,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ни-футболу, настольному теннису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4920" marR="34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fe8f1"/>
                    </a:solidFill>
                  </a:tcPr>
                </a:tc>
              </a:tr>
              <a:tr h="663480"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4. Фестиваль инвалидов (дартс, настольный бильярд, стрельба, шахматы, шашки, настольный теннис, нарды и бочче)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4920" marR="34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441360"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5.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Чемпионат Мурманской области по бочче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4920" marR="34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fe8f1"/>
                    </a:solidFill>
                  </a:tcPr>
                </a:tc>
              </a:tr>
              <a:tr h="590760"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 этап II Всероссийской летней Спартакиады инвалидов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плавание, лёгкая атлетика, настольный теннис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4920" marR="34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500040"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7.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М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атчевая встреча по юнифайд-футболу между командами Москвы и Мурманской области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4920" marR="34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4e1ed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179280" y="189000"/>
            <a:ext cx="8713800" cy="53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Юнифайд-спор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2" descr="C:\Documents and Settings\yuriryab\Рабочий стол\Шаблон-Мурманск-2.jpg"/>
          <p:cNvPicPr/>
          <p:nvPr/>
        </p:nvPicPr>
        <p:blipFill>
          <a:blip r:embed="rId1"/>
          <a:stretch/>
        </p:blipFill>
        <p:spPr>
          <a:xfrm>
            <a:off x="8051760" y="0"/>
            <a:ext cx="1092240" cy="666720"/>
          </a:xfrm>
          <a:prstGeom prst="rect">
            <a:avLst/>
          </a:prstGeom>
          <a:ln w="0">
            <a:noFill/>
          </a:ln>
        </p:spPr>
      </p:pic>
      <p:grpSp>
        <p:nvGrpSpPr>
          <p:cNvPr id="95" name="TextBox 10"/>
          <p:cNvGrpSpPr/>
          <p:nvPr/>
        </p:nvGrpSpPr>
        <p:grpSpPr>
          <a:xfrm>
            <a:off x="378000" y="895320"/>
            <a:ext cx="4151160" cy="3073320"/>
            <a:chOff x="378000" y="895320"/>
            <a:chExt cx="4151160" cy="3073320"/>
          </a:xfrm>
        </p:grpSpPr>
        <p:pic>
          <p:nvPicPr>
            <p:cNvPr id="96" name="TextBox 10" descr=""/>
            <p:cNvPicPr/>
            <p:nvPr/>
          </p:nvPicPr>
          <p:blipFill>
            <a:blip r:embed="rId2"/>
            <a:stretch/>
          </p:blipFill>
          <p:spPr>
            <a:xfrm>
              <a:off x="378000" y="895320"/>
              <a:ext cx="4151160" cy="30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395280" y="907920"/>
              <a:ext cx="4118040" cy="30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23 мая в рамках Дней Москвы в Мурманской области впервые состоялась матчевая встреча по юнифайд-футболу между командами Москвы и Мурманской области. Данное мероприятие относится к категории особо значимых, поскольку оно объединяет спортсменов с ограниченными возможностями здоровья и здоровых ребят. Именно поэтому Юнифайд ещё называют Объединённым спортом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TextBox 14"/>
          <p:cNvGrpSpPr/>
          <p:nvPr/>
        </p:nvGrpSpPr>
        <p:grpSpPr>
          <a:xfrm>
            <a:off x="4846680" y="895320"/>
            <a:ext cx="4132080" cy="4305240"/>
            <a:chOff x="4846680" y="895320"/>
            <a:chExt cx="4132080" cy="4305240"/>
          </a:xfrm>
        </p:grpSpPr>
        <p:pic>
          <p:nvPicPr>
            <p:cNvPr id="99" name="TextBox 14" descr=""/>
            <p:cNvPicPr/>
            <p:nvPr/>
          </p:nvPicPr>
          <p:blipFill>
            <a:blip r:embed="rId3"/>
            <a:stretch/>
          </p:blipFill>
          <p:spPr>
            <a:xfrm>
              <a:off x="4846680" y="895320"/>
              <a:ext cx="4132080" cy="430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4859280" y="907920"/>
              <a:ext cx="4105440" cy="423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Главный принцип Юнифайд-движения социализация спортсменов с интеллектуальными нарушениями для участия в жизни общества.  Возможность пообщаться со сверстниками в формате спортивных состязаний – один из лучших способов социальной  адаптации. Проведение таких соревнований помогает развивать спортивные навыки и активно участвовать во всех аспектах жизни путём укрепления самооценки и уверенности в себе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Благодаря занятиям спортом по программе «Юнифайд» ребята становятся более активными, раскрепощёнными, трудолюбивыми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" name="Рисунок 11" descr="2014-10-20_102905.jpg"/>
          <p:cNvPicPr/>
          <p:nvPr/>
        </p:nvPicPr>
        <p:blipFill>
          <a:blip r:embed="rId4"/>
          <a:stretch/>
        </p:blipFill>
        <p:spPr>
          <a:xfrm>
            <a:off x="468360" y="4076640"/>
            <a:ext cx="4032360" cy="257976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15" descr="2014-10-20_102615.jpg"/>
          <p:cNvPicPr/>
          <p:nvPr/>
        </p:nvPicPr>
        <p:blipFill>
          <a:blip r:embed="rId5"/>
          <a:stretch/>
        </p:blipFill>
        <p:spPr>
          <a:xfrm>
            <a:off x="4859280" y="5229360"/>
            <a:ext cx="4105440" cy="1403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C:\Documents and Settings\yuriryab\Рабочий стол\Шаблон-Мурманск-2.jpg"/>
          <p:cNvPicPr/>
          <p:nvPr/>
        </p:nvPicPr>
        <p:blipFill>
          <a:blip r:embed="rId1"/>
          <a:stretch/>
        </p:blipFill>
        <p:spPr>
          <a:xfrm>
            <a:off x="8051760" y="0"/>
            <a:ext cx="1092240" cy="66672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2"/>
          <p:cNvSpPr/>
          <p:nvPr/>
        </p:nvSpPr>
        <p:spPr>
          <a:xfrm>
            <a:off x="1042920" y="189000"/>
            <a:ext cx="64818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портсмены-адаптивники Мурманской област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иняли участие  в соревнованиях разного уровн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Равнобедренный треугольник 13"/>
          <p:cNvSpPr/>
          <p:nvPr/>
        </p:nvSpPr>
        <p:spPr>
          <a:xfrm rot="10800000">
            <a:off x="1000080" y="713520"/>
            <a:ext cx="6500880" cy="428760"/>
          </a:xfrm>
          <a:prstGeom prst="triangle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50920" y="1201680"/>
          <a:ext cx="5472000" cy="5656320"/>
        </p:xfrm>
        <a:graphic>
          <a:graphicData uri="http://schemas.openxmlformats.org/drawingml/2006/table">
            <a:tbl>
              <a:tblPr/>
              <a:tblGrid>
                <a:gridCol w="5472000"/>
              </a:tblGrid>
              <a:tr h="639720"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. Чемпионат и Кубок России по бочче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для спортсменов с нарушениями опорно-двигательного аппарата, г.Алекси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4920" marR="34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fe8f1"/>
                    </a:solidFill>
                  </a:tcPr>
                </a:tc>
              </a:tr>
              <a:tr h="1065960"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Первенство России по лыжным гонкам и биатлону среди слепых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, г. Красноярск. Екатерина Мошковская и ведущая спортсменка Анастасия Сергачёва стали обладательницами полного комплекта медалей. Включены в состав сборной команды Росс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4920" marR="34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1492200"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3. Всероссийская Спартакиада Специальной Олимпиады России по лёгкой атлетике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, г.Санкт-Петербург. Тернов Владимир, Мухаметшина Рузалия стали призёрами соревнований, Валерия Елохина – победительница соревнований, включена в состав сборной команды России на Всемирные игры Специальной Олимпиады в 2015 год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4920" marR="34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fe8f1"/>
                    </a:solidFill>
                  </a:tcPr>
                </a:tc>
              </a:tr>
              <a:tr h="1279080"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4. Всероссийская Спартакиада Специальной Олимпиады Росси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 по плаванию и настольному теннису, г.Барнаул. Владислав Труфанов, Эмиль Березин, Анастасия Бугдусаим – призёры соревнований по теннису. Кирилл Камалов, Денис Бельдий, Татьяна Савина и Анастасия Хуторская – призёры соревнований по плавани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4920" marR="34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  <a:tr h="852840"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5. Европейские летние игры Специальной Олимпиады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. В составе сборной команды России Георгий Белоконь стал двухкратным победителем в соревнованиях по плаванию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4920" marR="34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fe8f1"/>
                    </a:solidFill>
                  </a:tcPr>
                </a:tc>
              </a:tr>
              <a:tr h="852840"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6. Всероссийская летняя спартакиада детей-инвалидов по зрению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, г.Щёлково. Анастасия Прилепина и ведущая спортсменка Айнур Багирова, стали бронзовыми призёра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4920" marR="34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fe8f1"/>
                    </a:solidFill>
                  </a:tcPr>
                </a:tc>
              </a:tr>
            </a:tbl>
          </a:graphicData>
        </a:graphic>
      </p:graphicFrame>
      <p:pic>
        <p:nvPicPr>
          <p:cNvPr id="107" name="Рисунок 6" descr="20140930_122100.jpg"/>
          <p:cNvPicPr/>
          <p:nvPr/>
        </p:nvPicPr>
        <p:blipFill>
          <a:blip r:embed="rId2"/>
          <a:stretch/>
        </p:blipFill>
        <p:spPr>
          <a:xfrm>
            <a:off x="5796000" y="1197000"/>
            <a:ext cx="3348000" cy="5406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C:\Documents and Settings\yuriryab\Рабочий стол\Шаблон-Мурманск-2.jpg"/>
          <p:cNvPicPr/>
          <p:nvPr/>
        </p:nvPicPr>
        <p:blipFill>
          <a:blip r:embed="rId1"/>
          <a:stretch/>
        </p:blipFill>
        <p:spPr>
          <a:xfrm>
            <a:off x="8051760" y="0"/>
            <a:ext cx="1092240" cy="6667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9"/>
          <p:cNvSpPr/>
          <p:nvPr/>
        </p:nvSpPr>
        <p:spPr>
          <a:xfrm>
            <a:off x="1187280" y="277920"/>
            <a:ext cx="6326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абота с актив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Равнобедренный треугольник 5"/>
          <p:cNvSpPr/>
          <p:nvPr/>
        </p:nvSpPr>
        <p:spPr>
          <a:xfrm rot="10800000">
            <a:off x="108000" y="924840"/>
            <a:ext cx="3013200" cy="431640"/>
          </a:xfrm>
          <a:prstGeom prst="triangle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Равнобедренный треугольник 6"/>
          <p:cNvSpPr/>
          <p:nvPr/>
        </p:nvSpPr>
        <p:spPr>
          <a:xfrm rot="10800000">
            <a:off x="3121200" y="925200"/>
            <a:ext cx="2901600" cy="428400"/>
          </a:xfrm>
          <a:prstGeom prst="triangle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Равнобедренный треугольник 7"/>
          <p:cNvSpPr/>
          <p:nvPr/>
        </p:nvSpPr>
        <p:spPr>
          <a:xfrm rot="10800000">
            <a:off x="5940000" y="924840"/>
            <a:ext cx="3095640" cy="453960"/>
          </a:xfrm>
          <a:prstGeom prst="triangle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TextBox 8"/>
          <p:cNvGrpSpPr/>
          <p:nvPr/>
        </p:nvGrpSpPr>
        <p:grpSpPr>
          <a:xfrm>
            <a:off x="311040" y="2262240"/>
            <a:ext cx="2621160" cy="4444920"/>
            <a:chOff x="311040" y="2262240"/>
            <a:chExt cx="2621160" cy="4444920"/>
          </a:xfrm>
        </p:grpSpPr>
        <p:pic>
          <p:nvPicPr>
            <p:cNvPr id="114" name="TextBox 8" descr=""/>
            <p:cNvPicPr/>
            <p:nvPr/>
          </p:nvPicPr>
          <p:blipFill>
            <a:blip r:embed="rId2"/>
            <a:stretch/>
          </p:blipFill>
          <p:spPr>
            <a:xfrm>
              <a:off x="311040" y="2262240"/>
              <a:ext cx="2621160" cy="40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324000" y="2276640"/>
              <a:ext cx="2592360" cy="443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- разработаны соглашения с региональными организациями Всероссийского общества инвалидов, всероссийского общества слепых и всероссийского общества глухих на 2015 год;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- сформированы предложения в календарный план официальных физкультурных мероприятий и спортивных мероприятий на 2015 год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TextBox 9"/>
          <p:cNvGrpSpPr/>
          <p:nvPr/>
        </p:nvGrpSpPr>
        <p:grpSpPr>
          <a:xfrm>
            <a:off x="237960" y="1468440"/>
            <a:ext cx="2743200" cy="839880"/>
            <a:chOff x="237960" y="1468440"/>
            <a:chExt cx="2743200" cy="839880"/>
          </a:xfrm>
        </p:grpSpPr>
        <p:pic>
          <p:nvPicPr>
            <p:cNvPr id="117" name="TextBox 9" descr=""/>
            <p:cNvPicPr/>
            <p:nvPr/>
          </p:nvPicPr>
          <p:blipFill>
            <a:blip r:embed="rId3"/>
            <a:stretch/>
          </p:blipFill>
          <p:spPr>
            <a:xfrm>
              <a:off x="237960" y="1468440"/>
              <a:ext cx="274320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250920" y="1484280"/>
              <a:ext cx="2717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Региональные отделения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ВОИ, ВОГ, ВО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TextBox 10"/>
          <p:cNvGrpSpPr/>
          <p:nvPr/>
        </p:nvGrpSpPr>
        <p:grpSpPr>
          <a:xfrm>
            <a:off x="3333600" y="1468440"/>
            <a:ext cx="2768760" cy="615960"/>
            <a:chOff x="3333600" y="1468440"/>
            <a:chExt cx="2768760" cy="615960"/>
          </a:xfrm>
        </p:grpSpPr>
        <p:pic>
          <p:nvPicPr>
            <p:cNvPr id="120" name="TextBox 10" descr=""/>
            <p:cNvPicPr/>
            <p:nvPr/>
          </p:nvPicPr>
          <p:blipFill>
            <a:blip r:embed="rId4"/>
            <a:stretch/>
          </p:blipFill>
          <p:spPr>
            <a:xfrm>
              <a:off x="3333600" y="1468440"/>
              <a:ext cx="27687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3348000" y="1484280"/>
              <a:ext cx="2736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Совещание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TextBox 11"/>
          <p:cNvGrpSpPr/>
          <p:nvPr/>
        </p:nvGrpSpPr>
        <p:grpSpPr>
          <a:xfrm>
            <a:off x="6431040" y="1468440"/>
            <a:ext cx="2547720" cy="839880"/>
            <a:chOff x="6431040" y="1468440"/>
            <a:chExt cx="2547720" cy="839880"/>
          </a:xfrm>
        </p:grpSpPr>
        <p:pic>
          <p:nvPicPr>
            <p:cNvPr id="123" name="TextBox 11" descr=""/>
            <p:cNvPicPr/>
            <p:nvPr/>
          </p:nvPicPr>
          <p:blipFill>
            <a:blip r:embed="rId5"/>
            <a:stretch/>
          </p:blipFill>
          <p:spPr>
            <a:xfrm>
              <a:off x="6431040" y="1468440"/>
              <a:ext cx="254772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443640" y="1484280"/>
              <a:ext cx="2521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Совещание-семина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по адаптивному спорту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TextBox 12"/>
          <p:cNvGrpSpPr/>
          <p:nvPr/>
        </p:nvGrpSpPr>
        <p:grpSpPr>
          <a:xfrm>
            <a:off x="3408480" y="2262240"/>
            <a:ext cx="2657520" cy="4216680"/>
            <a:chOff x="3408480" y="2262240"/>
            <a:chExt cx="2657520" cy="4216680"/>
          </a:xfrm>
        </p:grpSpPr>
        <p:pic>
          <p:nvPicPr>
            <p:cNvPr id="126" name="TextBox 12" descr=""/>
            <p:cNvPicPr/>
            <p:nvPr/>
          </p:nvPicPr>
          <p:blipFill>
            <a:blip r:embed="rId6"/>
            <a:stretch/>
          </p:blipFill>
          <p:spPr>
            <a:xfrm>
              <a:off x="3408480" y="2262240"/>
              <a:ext cx="2657520" cy="38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3419640" y="2276640"/>
              <a:ext cx="2633400" cy="420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29 сентября: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«Организация и проведение в Мурманской области спортивно-массовой работы с людьми с ограниченными возможностями»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 Unicode MS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 </a:t>
              </a:r>
              <a:r>
                <a:rPr b="0" lang="ru-RU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организации областных мероприятий,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 Unicode MS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 </a:t>
              </a:r>
              <a:r>
                <a:rPr b="0" lang="ru-RU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исполнении мероприятий календарного плана на 2014 год;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 Unicode MS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 </a:t>
              </a:r>
              <a:r>
                <a:rPr b="0" lang="ru-RU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формировании календарного плана на 2015 год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TextBox 13"/>
          <p:cNvGrpSpPr/>
          <p:nvPr/>
        </p:nvGrpSpPr>
        <p:grpSpPr>
          <a:xfrm>
            <a:off x="6497640" y="2316240"/>
            <a:ext cx="2658960" cy="4554360"/>
            <a:chOff x="6497640" y="2316240"/>
            <a:chExt cx="2658960" cy="4554360"/>
          </a:xfrm>
        </p:grpSpPr>
        <p:pic>
          <p:nvPicPr>
            <p:cNvPr id="129" name="TextBox 13" descr=""/>
            <p:cNvPicPr/>
            <p:nvPr/>
          </p:nvPicPr>
          <p:blipFill>
            <a:blip r:embed="rId7"/>
            <a:stretch/>
          </p:blipFill>
          <p:spPr>
            <a:xfrm>
              <a:off x="6497640" y="2316240"/>
              <a:ext cx="2658960" cy="455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6516720" y="2333520"/>
              <a:ext cx="2627280" cy="447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22 октября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«Организация и содержание работы по развитию адаптивного спорта в Мурманской области в  2015 году»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- вопросы нормативно-правовой базы адаптивного спорта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 Unicode MS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классификация в адаптивном спорте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- перспективы развития бочче в Мурманской области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- вопросы организации работы Мурманского территориального отделения Специальной Олимпиады в 2015 год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3" descr="C:\Documents and Settings\yuriryab\Рабочий стол\Карта России-Мурманск.jpg"/>
          <p:cNvPicPr/>
          <p:nvPr/>
        </p:nvPicPr>
        <p:blipFill>
          <a:blip r:embed="rId1"/>
          <a:stretch/>
        </p:blipFill>
        <p:spPr>
          <a:xfrm>
            <a:off x="162000" y="461880"/>
            <a:ext cx="8731080" cy="541512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3"/>
          <p:cNvSpPr/>
          <p:nvPr/>
        </p:nvSpPr>
        <p:spPr>
          <a:xfrm>
            <a:off x="1500120" y="2714760"/>
            <a:ext cx="60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Спасибо за вним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6012000" y="4724280"/>
            <a:ext cx="28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2" descr="C:\Documents and Settings\yuriryab\Рабочий стол\Шаблон-Мурманск-2.jpg"/>
          <p:cNvPicPr/>
          <p:nvPr/>
        </p:nvPicPr>
        <p:blipFill>
          <a:blip r:embed="rId2"/>
          <a:stretch/>
        </p:blipFill>
        <p:spPr>
          <a:xfrm>
            <a:off x="5796000" y="4929120"/>
            <a:ext cx="3159000" cy="19288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14"/>
          <p:cNvSpPr/>
          <p:nvPr/>
        </p:nvSpPr>
        <p:spPr>
          <a:xfrm>
            <a:off x="179280" y="5627520"/>
            <a:ext cx="540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председатель Комитет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по физической культур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и спорту Мурманской области          С.И. Наумо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34920" y="44280"/>
            <a:ext cx="864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ЗАСЕДАНИЕ СОВЕТА ПРИ ГУБЕРНАТОРЕ МУРМАНСКОЙ ОБЛАСТ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ПО ДЕЛАМ ИНВАЛИД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6605640" y="1058760"/>
            <a:ext cx="250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2014 год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г. Мурманс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9T20:00:54Z</dcterms:created>
  <dc:creator>1</dc:creator>
  <dc:description/>
  <dc:language>en-US</dc:language>
  <cp:lastModifiedBy>Алексей Геринг</cp:lastModifiedBy>
  <cp:lastPrinted>2013-08-09T08:41:08Z</cp:lastPrinted>
  <dcterms:modified xsi:type="dcterms:W3CDTF">2014-10-28T06:54:39Z</dcterms:modified>
  <cp:revision>61</cp:revision>
  <dc:subject/>
  <dc:title>Слайд 1</dc:title>
</cp:coreProperties>
</file>